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B75-65D6-42FA-A28B-E577D502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1E0F-D907-49B9-947B-FC332281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E7B-718C-4D80-8688-117F368C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2FFB-C2B9-416E-B01A-B0CE08AB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7BA-9035-4FB9-B64B-D857C33D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DCD-A71E-4B98-A77B-4DB376F2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4E3-2637-46D0-A7F0-8254C716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4E4-1AB9-402C-88B9-1EEA543B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531-1912-45BB-9794-7E58716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C7C-05E5-43DF-83EC-9F8DB1D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F57-0CD0-41CC-969A-7B5BF8BC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117-99C4-461B-9369-817B7175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A124-58BF-4494-B0B2-5A221CF92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0727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88898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05:32:11Z</dcterms:created>
  <dc:creator>01690112</dc:creator>
  <dc:description/>
  <dc:language>en-US</dc:language>
  <cp:lastModifiedBy>01690112</cp:lastModifiedBy>
  <dcterms:modified xsi:type="dcterms:W3CDTF">2009-06-26T05:37:27Z</dcterms:modified>
  <cp:revision>2</cp:revision>
  <dc:subject/>
  <dc:title>Slide 1</dc:title>
</cp:coreProperties>
</file>